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0.jpeg" ContentType="image/jpeg"/>
  <Override PartName="/ppt/media/image19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BB82-EF9F-4F4A-B286-6DD33C8FB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643E-D180-44AA-966A-DB63107B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6F20-8B4C-4C3E-B446-964606C9D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6CCD-7EB3-4629-9484-FC369A38B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5633-E58F-48DC-9EA9-EB95C138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23DC-3252-47F8-8AC3-AABD68D3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4C33-75E8-4D1F-8AB3-DBF795D0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D14C-E72D-44B1-9960-43A666C1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C718-9990-405E-B95E-286A7FE0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08BA-3324-470D-A99E-1A4503EF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4522-1096-4C38-99C6-3F63E883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B352-E186-4820-8104-1E2B6F97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E1F9-C291-4652-B971-8DDD71A91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hyperlink" Target="http://images.google.es/imgres?imgurl=http://www.colblindor.com/wp-content/images/peacock-eye.JPG&amp;imgrefurl=http://www.colblindor.com/2007/06/13/colorful-peacock/&amp;usg=__PFq06O8WSS2o2h47G1ukzUBFnpc=&amp;h=360&amp;w=480&amp;sz=91&amp;hl=es&amp;start=10&amp;tbnid=KYuzM_-RpJnAsM:&amp;tbnh=97&amp;tbnw=129&amp;prev=/images%3Fq%3Dpeacock%26gbv%3D2%26ndsp%3D20%26hl%3Des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76360" y="0"/>
            <a:ext cx="6048360" cy="645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arts o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nimals' bod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4000" y="352440"/>
            <a:ext cx="6200640" cy="4491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805800" y="5300640"/>
            <a:ext cx="1252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996633"/>
                </a:solidFill>
                <a:latin typeface="Arial"/>
              </a:rPr>
              <a:t>tai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3171960" cy="4762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34520" y="5445000"/>
            <a:ext cx="160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paw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780000" y="1052640"/>
            <a:ext cx="4762440" cy="3400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65800" y="5013360"/>
            <a:ext cx="170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law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078000" cy="3960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932360" y="189000"/>
            <a:ext cx="3772080" cy="3771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13440" y="4581360"/>
            <a:ext cx="1535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sk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89080" y="3846600"/>
            <a:ext cx="1070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fu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14160" y="6156360"/>
            <a:ext cx="416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eacock’s fea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59280" y="4005360"/>
            <a:ext cx="281304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77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770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7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9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340000" y="333360"/>
            <a:ext cx="4333680" cy="4762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405440" y="5516640"/>
            <a:ext cx="434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e has got a monkey on hi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7600" y="5300640"/>
            <a:ext cx="212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3300"/>
                </a:solidFill>
                <a:latin typeface="Arial"/>
              </a:rPr>
              <a:t>shoul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79640" y="836640"/>
            <a:ext cx="5218200" cy="3470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06200" y="5516640"/>
            <a:ext cx="842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he had a small accident, and her ….                      … hu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52360" y="5300640"/>
            <a:ext cx="167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3300"/>
                </a:solidFill>
                <a:latin typeface="Arial"/>
              </a:rPr>
              <a:t>kn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484360" y="0"/>
            <a:ext cx="4114800" cy="52959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528560" y="5700600"/>
            <a:ext cx="370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als have got four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87240" y="5589720"/>
            <a:ext cx="181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3300"/>
                </a:solidFill>
                <a:latin typeface="Arial"/>
              </a:rPr>
              <a:t>flipp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771640" y="692280"/>
            <a:ext cx="4048200" cy="3438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049640" y="4518000"/>
            <a:ext cx="197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elb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5400" spc="-1" strike="noStrike">
                <a:solidFill>
                  <a:srgbClr val="333399"/>
                </a:solidFill>
                <a:latin typeface="Arial"/>
              </a:rPr>
              <a:t>What are they lik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627280" y="692280"/>
            <a:ext cx="414324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03280" y="1066680"/>
            <a:ext cx="6553440" cy="45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19280" y="476280"/>
            <a:ext cx="6624720" cy="5037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781440" y="5661000"/>
            <a:ext cx="208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42920" y="781200"/>
            <a:ext cx="7058160" cy="52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380960" y="781200"/>
            <a:ext cx="6382080" cy="52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42920" y="781200"/>
            <a:ext cx="7058160" cy="52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00120" y="781200"/>
            <a:ext cx="7943760" cy="52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547640" y="1155600"/>
            <a:ext cx="604872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42920" y="781200"/>
            <a:ext cx="7058160" cy="52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2914560" cy="3886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076720" y="36450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492360" y="404640"/>
            <a:ext cx="388800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ff3300"/>
                </a:solidFill>
                <a:latin typeface="Arial"/>
              </a:rPr>
              <a:t>And now…</a:t>
            </a:r>
            <a:br>
              <a:rPr sz="7200"/>
            </a:br>
            <a:r>
              <a:rPr b="0" lang="es-ES" sz="7200" spc="-1" strike="noStrike">
                <a:solidFill>
                  <a:srgbClr val="ff3300"/>
                </a:solidFill>
                <a:latin typeface="Arial"/>
              </a:rPr>
              <a:t>more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90600" y="933480"/>
            <a:ext cx="476280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0920" y="1055520"/>
            <a:ext cx="8642160" cy="474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79640" y="476280"/>
            <a:ext cx="5476680" cy="4105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494160" y="5084640"/>
            <a:ext cx="1832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bea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835280" y="884160"/>
            <a:ext cx="590544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11280" y="509760"/>
            <a:ext cx="7848360" cy="58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52520" y="0"/>
            <a:ext cx="48880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0920" y="928800"/>
            <a:ext cx="8066160" cy="53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4695840" cy="4762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94360" y="4662360"/>
            <a:ext cx="16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ey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dumbo free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6216480"/>
            <a:ext cx="546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umbo has got very big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652720" y="621648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3300"/>
                </a:solidFill>
                <a:latin typeface="Arial"/>
              </a:rPr>
              <a:t>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200424711-001, Gavriel Jecan /Photographer's Choice"/>
          <p:cNvPicPr/>
          <p:nvPr/>
        </p:nvPicPr>
        <p:blipFill>
          <a:blip r:embed="rId1"/>
          <a:stretch/>
        </p:blipFill>
        <p:spPr>
          <a:xfrm>
            <a:off x="1547640" y="1197000"/>
            <a:ext cx="6048720" cy="4145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477800" y="260280"/>
            <a:ext cx="641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iraffes have got a long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6160" y="5516640"/>
            <a:ext cx="1951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ff3300"/>
                </a:solidFill>
                <a:latin typeface="Arial"/>
              </a:rPr>
              <a:t>nec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50920" y="1916280"/>
            <a:ext cx="5040360" cy="4537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57080" y="476280"/>
            <a:ext cx="368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and a big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57800" y="476280"/>
            <a:ext cx="251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3300"/>
                </a:solidFill>
                <a:latin typeface="Arial"/>
              </a:rPr>
              <a:t>tongu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843280" y="2924280"/>
            <a:ext cx="3419280" cy="3619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69800" y="333360"/>
            <a:ext cx="821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This baboon is showing i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1080" y="1484280"/>
            <a:ext cx="170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tee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77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770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77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770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26920" y="5084640"/>
            <a:ext cx="618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nkeys have got  five …                          …. in their feet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53080" y="50846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t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140360" y="549360"/>
            <a:ext cx="4244760" cy="4475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122560" y="5877000"/>
            <a:ext cx="41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d five …                  …  in their h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1800" y="5877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fin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08:49:30Z</dcterms:created>
  <dc:creator>Profesor</dc:creator>
  <dc:description/>
  <dc:language>en-US</dc:language>
  <cp:lastModifiedBy>mcc</cp:lastModifiedBy>
  <dcterms:modified xsi:type="dcterms:W3CDTF">2011-03-10T10:40:43Z</dcterms:modified>
  <cp:revision>8</cp:revision>
  <dc:subject/>
  <dc:title>Diapositiva 1</dc:title>
</cp:coreProperties>
</file>